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77F0-978A-4402-8ADF-5EBF466E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82C5-F0A8-4497-B864-FC6E5181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66CE-5F37-44AB-B15A-7A53BFA4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C611-F7B8-40BF-A029-C52DA834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AEC0-E7E1-4D05-BF0E-ED02D545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574A-FF8C-4ECF-B30F-71EAF7BD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DE4B-B7AA-49B4-B346-11F1A0B9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C86E-F2EB-4B0B-A075-A82F56D9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E6F4-A79E-4D1E-8B01-CFACA5F4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030C-585B-4F1B-92D4-5A343C93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8A38-5697-4C46-8C73-3A3CD698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D1DC-4F12-40C1-97FB-847CC02A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0A30-E645-4051-A205-B76215AB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79AA-4622-4B89-9777-71025EFB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A862-F808-454E-9FF1-EBED8440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C61A-2BA6-4D9B-86E9-2BC02990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A639-3456-4CDC-9F1A-6810AEF7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11DE-0F48-4132-8E22-C9C8228B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C943-74E2-4584-977E-842917F0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68B6-47C1-47BD-A6D1-14D75B84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ECF1-7687-4CB2-9E3A-D0C0E0A4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0A49-0A4A-44E1-AC24-14127F14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1D74-FC87-457B-B06B-9D810196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5E41-D9DC-417D-A52B-AC02428E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82F0-1A5B-4859-AD98-6E600BBDFC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4571-C2E0-4E12-9CB1-04EB8E9B9B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Jordan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a/Mount_Nebo3.jpe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3/Petra_metzes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0004"/>
                </a:solidFill>
                <a:latin typeface="Arial Black"/>
              </a:rPr>
              <a:t>Jordan   </a:t>
            </a:r>
            <a:r>
              <a:rPr b="1" lang="ar-SA" sz="4400" spc="-1" strike="noStrike">
                <a:solidFill>
                  <a:srgbClr val="010004"/>
                </a:solidFill>
                <a:latin typeface="Arial Black"/>
                <a:cs typeface="Arial"/>
              </a:rPr>
              <a:t>الأردنّ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4"/>
                </a:solidFill>
                <a:latin typeface="Arial"/>
              </a:rPr>
              <a:t>By: Kyley and Joh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ita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en.wikipedia.org/wiki/Jord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news.bbc.co.uk/1/hi/world/middle_east/country_profiles/828763.s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File:Mount Nebo3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Lan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rdan is a Southwest Asian coun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rdan consists of arid forest plateau in the east irrigated by oasis and seasonal water strea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nd Cont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ighest point in the country is Jabal 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eat Rift Valley of the Jordan River separates Jordan, the west bank and Israe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rdan’s Natural Resources are Phosphates, Potash, and Shale 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mate/Veget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limate is very rainy from November to march and semi dry weather for the rest of the yea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f the animals are Caracal Persian Lynx), Red Fox, Hare, Golden Jackal, and Arabian Ory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overnment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4"/>
                </a:solidFill>
                <a:latin typeface="Arial"/>
              </a:rPr>
              <a:t>Their government is a constitutional monarc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4"/>
                </a:solidFill>
                <a:latin typeface="Arial"/>
              </a:rPr>
              <a:t>The king is Abdull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4"/>
                </a:solidFill>
                <a:latin typeface="Arial"/>
              </a:rPr>
              <a:t>The Prime minister is Nader al-Daha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4"/>
                </a:solidFill>
                <a:latin typeface="Arial"/>
              </a:rPr>
              <a:t>The population is 6.1 mill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4"/>
                </a:solidFill>
                <a:latin typeface="Arial"/>
              </a:rPr>
              <a:t>Life expectancy is 71 years for men and for women is 7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istory and Current Eve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ingdom of Petra, was founded by the Nabatae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lim is facing time in Jordan. He moved and could be sent back to Jordan and tortured. They think he was 'Osama Bin Laden's right hand man in Eur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conomy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s of light manufactured products, gar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ion and literacy rates and measures of social well-being are very high compared to other countries with similar inco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rdan's currency is Jordanian dinar (JOD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File:Petra metz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ul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thing is mod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abian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guage is Arab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gion is Islam and Christian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laces to visi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usader Cast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famous of these is Kera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ad Se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jloun Cas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7:29:50Z</dcterms:created>
  <dc:creator>kyleymhughes</dc:creator>
  <dc:description/>
  <dc:language>en-US</dc:language>
  <cp:lastModifiedBy>McFaddeR</cp:lastModifiedBy>
  <dcterms:modified xsi:type="dcterms:W3CDTF">2009-02-19T17:25:58Z</dcterms:modified>
  <cp:revision>5</cp:revision>
  <dc:subject/>
  <dc:title>Slide 1</dc:title>
</cp:coreProperties>
</file>